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80A8-88EF-4A49-877E-E84AF414B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9022-3169-4FBA-8484-A1A852F5A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FAA5-EA9E-4D75-970D-B2BA07D77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F243-EE69-4261-B7BC-AD0ECD4D1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69DA-214A-47E4-89D6-32E4932B2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999F-9EC4-408F-8A07-FD855C4A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6517-BBD5-447F-8EBB-D8A42EE9D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5A2E-030F-48E4-8494-1AA0E8A92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B7E4-87F5-4D15-8966-8BC5875D1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2E66-3455-4D68-BFB9-CE726B51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A117-3CE6-449E-BA77-1324D66C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4ACB-F2F3-4B78-8F9D-129D4247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B8ED6-6094-4BC8-8247-D1585D8F0B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Nayeli ce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599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Greek city-st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2286000" y="2666880"/>
            <a:ext cx="492444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iloso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tudy  of wisdom and he right to l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2666880" y="2162160"/>
            <a:ext cx="381024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ninsu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599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area of land nearly surrounded by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2514600" y="2133720"/>
            <a:ext cx="335268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loponnesian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ar between Sparta and Athe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2333520" y="2666880"/>
            <a:ext cx="383868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ig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599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kind o government that is ran by a small group of peo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2133720" y="3276720"/>
            <a:ext cx="42861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b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599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heltered place or coast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1066680" y="2743200"/>
            <a:ext cx="514980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0" y="2182680"/>
            <a:ext cx="9144000" cy="46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lace where Greeks meet and conduct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0" y="1752480"/>
            <a:ext cx="89154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mb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awmaking place where people voted on issues that hel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380880" y="2666880"/>
            <a:ext cx="800100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iz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erson who has a certain righ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1447920" y="2590920"/>
            <a:ext cx="575136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n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80880" y="1599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group of people that came to settle from a different coun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1981080" y="2895480"/>
            <a:ext cx="4473720" cy="33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oc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orm of gov. that the people dec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"/>
          <p:cNvPicPr/>
          <p:nvPr/>
        </p:nvPicPr>
        <p:blipFill>
          <a:blip r:embed="rId1"/>
          <a:stretch/>
        </p:blipFill>
        <p:spPr>
          <a:xfrm>
            <a:off x="1447920" y="2971800"/>
            <a:ext cx="531324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-990720" y="304920"/>
            <a:ext cx="12192120" cy="81248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hear and decide whose  guil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arch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599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v headed by one ru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2362320" y="2362320"/>
            <a:ext cx="42717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BHISD</cp:lastModifiedBy>
  <dcterms:modified xsi:type="dcterms:W3CDTF">2012-03-09T16:45:38Z</dcterms:modified>
  <cp:revision>93</cp:revision>
  <dc:subject/>
  <dc:title>Ancient Greece</dc:title>
</cp:coreProperties>
</file>